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A14F-4DF8-4A15-B9BA-3F14C3CBA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D8C3-7B9E-4EE9-A5EA-346BE73C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112E-1F0D-4FFB-8C7A-FDB92C5AD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CA8C-B5F8-411B-8B18-20707545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3F22-886C-4CA7-9575-B2F3D91D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D7EC-89FD-47C2-B182-7582F481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F9C5-265B-4807-8382-8796D989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9820-AD4F-41E7-AEB8-172DEF1A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038E-1E8C-4E67-B9CE-8A2C55F7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9FDE-FBD0-4BC0-8F37-40165DB3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83A2-71A7-4102-8071-602C9858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F796-ECA8-4D99-B610-21B0F717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AC7C-37B8-43EE-8A25-F6905D395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9600" y="1676160"/>
            <a:ext cx="7924680" cy="243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PROGRAMA PRIORITÁRIO DE INVESTIMENTOS E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 INFRA-ESTRUTU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97360" y="4495680"/>
            <a:ext cx="3657600" cy="1067040"/>
          </a:xfrm>
          <a:prstGeom prst="rect">
            <a:avLst/>
          </a:prstGeom>
          <a:gradFill rotWithShape="0">
            <a:gsLst>
              <a:gs pos="0">
                <a:srgbClr val="668600"/>
              </a:gs>
              <a:gs pos="100000">
                <a:srgbClr val="99ff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2007 - 20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63360"/>
            <a:ext cx="228600" cy="6553440"/>
          </a:xfrm>
          <a:prstGeom prst="rect">
            <a:avLst/>
          </a:prstGeom>
          <a:gradFill rotWithShape="0">
            <a:gsLst>
              <a:gs pos="0">
                <a:srgbClr val="668600"/>
              </a:gs>
              <a:gs pos="100000">
                <a:srgbClr val="99ff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41200"/>
            <a:ext cx="228600" cy="6553440"/>
          </a:xfrm>
          <a:prstGeom prst="rect">
            <a:avLst/>
          </a:prstGeom>
          <a:gradFill rotWithShape="0">
            <a:gsLst>
              <a:gs pos="0">
                <a:srgbClr val="668600"/>
              </a:gs>
              <a:gs pos="100000">
                <a:srgbClr val="99ff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9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RESSUPOSTOS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990720"/>
            <a:ext cx="8304120" cy="55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s ações do OGU/PPI a serem contratadas a partir de 2008 serão definidas pelo MCidades em conjunto com os interessados de modo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a assegurar o atendimento da demanda considerada relevant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O MCidades dará apoio a preparação de projetos para agilizar a execução dos empreendim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s ações do OGU/PPI serão executadas com o apoio da CAIX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velocidade de execução das ações não pode comprometer a qualidade dos empreendimentos e o seu desenvolvimento deve apoiar a implementação da Lei 11.44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ão estão consideradas nesta apresentação as ações de água e esgoto da CODEVASF nas bacias do São Francisco e Parnaíb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9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ALGUNS DESAF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1219320"/>
            <a:ext cx="830412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A implementação das ações reforçar o SNGRH e o PNR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Compatibilização dos planos diretores municipais com os planos de saneamento, habitação e de ba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Coerência com a  as Leis 11.445 e 11.10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Incentivo a organização regionalizada da prestação dos serviços de modo a assegurar escala, gestão técnica, efetiva regulação por parte dos titulares e participação e controle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Sustentabilidade dos investimentos de manejo de águas pluvias e de manejo de resíduos sól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760" y="2590920"/>
            <a:ext cx="8648640" cy="1676160"/>
          </a:xfrm>
          <a:prstGeom prst="rect">
            <a:avLst/>
          </a:prstGeom>
          <a:gradFill rotWithShape="0">
            <a:gsLst>
              <a:gs pos="0">
                <a:srgbClr val="668600">
                  <a:alpha val="80392"/>
                </a:srgbClr>
              </a:gs>
              <a:gs pos="100000">
                <a:srgbClr val="99ff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Saneam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9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REMISSAS BÁS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1508040"/>
            <a:ext cx="8304120" cy="49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uscar a universalização do atend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mplementar a Lei de Saneamento Bás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Garantir política estável de financiamento, articulando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cursos onerosos e não onero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omover intervenções integradas e sustentáveis nas favelas e assentamentos precários das grandes c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poiar a preparação de projetos, obras e ações de desenvolvimento institucional dos prest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68360" y="765000"/>
          <a:ext cx="8136000" cy="613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765000"/>
                    <a:ext cx="8136000" cy="61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DISTRIBUIÇÃO DO DÉFICIT POR TAMANHO DE CID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85800" y="1538280"/>
          <a:ext cx="7848720" cy="4770360"/>
        </p:xfrm>
        <a:graphic>
          <a:graphicData uri="http://schemas.openxmlformats.org/drawingml/2006/table">
            <a:tbl>
              <a:tblPr/>
              <a:tblGrid>
                <a:gridCol w="1312200"/>
                <a:gridCol w="1678680"/>
                <a:gridCol w="1678680"/>
                <a:gridCol w="216000"/>
                <a:gridCol w="1522440"/>
                <a:gridCol w="1440720"/>
              </a:tblGrid>
              <a:tr h="825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OMICÍLIOS ATENDIDO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ATÉ 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Milhõ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ESSOAS ATENDID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TÉ 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Milhõ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 DOS DOMICÍLIOS ATENDI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0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Ág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2,3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*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sgo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8,2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*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ix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destinação adequad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1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6,0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**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METAS PARA 2007-2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630864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(*) PNAD 2005 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(**) Estimativa de 2006 do Ministério das Cida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1520" y="1266840"/>
            <a:ext cx="8915400" cy="2314440"/>
          </a:xfrm>
          <a:prstGeom prst="rect">
            <a:avLst/>
          </a:prstGeom>
          <a:solidFill>
            <a:srgbClr val="ffff99">
              <a:alpha val="2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OG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Atendimento às demandas relevante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</a:t>
            </a: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 quanto à saúde pública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 </a:t>
            </a: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com baix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</a:t>
            </a: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 retorn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Favelas e assentamentos precários em regiões metropolitanas, cidades grandes e áreas de impacto de projetos econômicos apoiados pela Uni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Cidades com baixo IDH, alta mortalidade infantil e elevados défic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Apoio à reestruturação da prestação dos serviç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3840" y="3657600"/>
            <a:ext cx="8893080" cy="1447920"/>
          </a:xfrm>
          <a:prstGeom prst="rect">
            <a:avLst/>
          </a:prstGeom>
          <a:solidFill>
            <a:srgbClr val="ffff99">
              <a:alpha val="2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GTS e F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tendimento às demandas, por meio de financiamentos a Estados, Municípios e Companhias de Sane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3840" y="5257800"/>
            <a:ext cx="8893080" cy="1371600"/>
          </a:xfrm>
          <a:prstGeom prst="rect">
            <a:avLst/>
          </a:prstGeom>
          <a:solidFill>
            <a:srgbClr val="ffff99">
              <a:alpha val="2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8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FGTS, FAT e Priv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8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Suporte a Operações de Mercado,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m especial </a:t>
            </a: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o financiamento a prestadores priv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7000"/>
            <a:ext cx="9144000" cy="1079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RIORIDADES DE INVESTIMEN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9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NVESTIMENTOS EM SANEAMENTO BÁSICO 2007-2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52280" y="1181160"/>
          <a:ext cx="8839440" cy="5524560"/>
        </p:xfrm>
        <a:graphic>
          <a:graphicData uri="http://schemas.openxmlformats.org/drawingml/2006/table">
            <a:tbl>
              <a:tblPr/>
              <a:tblGrid>
                <a:gridCol w="1295640"/>
                <a:gridCol w="893520"/>
                <a:gridCol w="4988160"/>
                <a:gridCol w="1662120"/>
              </a:tblGrid>
              <a:tr h="60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ONTE DE REC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BJETIV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VESTIM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R$ bilhõ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2404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G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aneamento integrado em  favelas e assentamentos precários em regiões metropolitanas, cidades grandes e áreas de impacto de projetos econômicos apoiados pela União (PP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Água, esgoto, destinação final de lixo e drenagem urbana em cidades de grande e médio porte (inclui desenvolvimento institucional) (PP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Água, esgoto, destinação final de lixo e drenagem urbana em cidades de até 50 mil habita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b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9260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GTS / F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inanciamentos a Estados, Municípios e Companhias de Sanea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inanciamento a Prestadores Privados e Operações de 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b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ntrapartida de Estados, Municípios e Prest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5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METAS REGIONAIS DE </a:t>
            </a:r>
            <a:r>
              <a:rPr b="1" lang="pt-BR" sz="3600" spc="-1" strike="noStrike">
                <a:solidFill>
                  <a:srgbClr val="000000"/>
                </a:solidFill>
                <a:latin typeface="Arial Narrow"/>
              </a:rPr>
              <a:t>INVESTIMENTO EM SANEAMENTO BÁSICO 2007-2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990720" y="1833480"/>
          <a:ext cx="6858000" cy="41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33480"/>
                    <a:ext cx="685800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9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RESSUPOS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1268280"/>
            <a:ext cx="830412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As operações de financiamento (FGTS/FAT) atenderão as demandas de estados e municípios de qualquer po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As ações de saneamento integrado do OGU/PPI em assentamentos precários darão prioridade a áreas consideradas críticas em RMs crít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As ações do OGU/PPI a serem contratadas em 2007 serão definidas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 Narrow"/>
              </a:rPr>
              <a:t>basicamente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 a partir das carteiras de “projetos prontos para licitar” dos programas Pat-Prosanear, HBB, FNHIS, PSARM, PASS-BID e consórcio do Piauí. O “PSARM” de 2007 não será executado pela FUN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23:23:45Z</dcterms:created>
  <dc:creator>MauricioMB</dc:creator>
  <dc:description/>
  <dc:language>en-US</dc:language>
  <cp:lastModifiedBy>MarcosHFM</cp:lastModifiedBy>
  <dcterms:modified xsi:type="dcterms:W3CDTF">2007-01-25T11:50:28Z</dcterms:modified>
  <cp:revision>171</cp:revision>
  <dc:subject/>
  <dc:title>Apresentação do PowerPoint</dc:title>
</cp:coreProperties>
</file>